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226-0B1B-4BC7-A0A6-070C3F5B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5D62-53DB-4345-B455-EDC03E82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002-E442-4DB8-9FEB-760E424A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C96-6848-47FB-A935-80AE83B3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A69-692F-46C6-885A-ABC83EB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368-E2C7-42CB-9D19-5FB00AAD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ADB3-C12C-4D8D-B386-CB6D5214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1BEF-D6EC-4DA8-919A-871D199E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AAD-2668-459E-98B8-CD9D5D19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266-9101-4D0F-B92D-08469477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63D-EBDC-4ADE-9D85-68673F6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C6F-2D12-4BBB-A1F4-2352917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229-4291-4F78-92BC-D76AB4F74E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wax.c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: Cassandra Blou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554120" y="457200"/>
            <a:ext cx="6035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54120" y="228600"/>
            <a:ext cx="6035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wax was easy but weird for me to naviga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took me a while to get exactly what I want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will use it later for resear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an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3:07:40Z</dcterms:created>
  <dc:creator>training</dc:creator>
  <dc:description/>
  <dc:language>en-US</dc:language>
  <cp:lastModifiedBy>training</cp:lastModifiedBy>
  <dcterms:modified xsi:type="dcterms:W3CDTF">2012-04-14T17:06:16Z</dcterms:modified>
  <cp:revision>5</cp:revision>
  <dc:subject/>
  <dc:title>Surfwax.com</dc:title>
</cp:coreProperties>
</file>